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29D060-29C7-4503-8724-FFE998D96E3C}"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702D1-0232-4575-8C72-2A3898983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EC0EF-C13F-4996-B548-920F78E8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ACBBB-0680-4164-98A7-014C4636C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CFD2A-C031-44BC-834A-18943733B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F9DB0-95C8-48C2-B860-DF8E54844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B8585-A3D8-4DC1-B2B8-EE8E6438A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C69A8-2299-4FFE-8DE2-228EE918D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CAC4B-345F-4B1A-AAFA-86586D549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3CA0D-6ADE-4B66-B793-47AD53B34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22BE5-DD4C-4794-9F9F-C5960737B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50ACC-B91D-440D-ACC0-4439E8B92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62FF-E6E9-4CF2-899B-B13EDF75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6F7D8-87A2-4E9E-9CD5-362242724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350DA-D60B-4925-A12A-69179587F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347B9-8E9E-4A04-919E-E0FBD1524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BE78E-A881-4B79-9F24-81C9A154F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C225A-F8CC-4555-AB24-3521E8212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6812-1B55-42F4-BD04-8DDF1E962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AC671-4ADC-487E-87E4-16EBF164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719D-68E1-4740-BD5F-ED42347C8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4A19A-FFBF-4EAD-8C47-24129F90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84EAB-59F7-4283-BEDF-13302642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B359-9C4F-460E-B524-CE37522E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553C-AE9C-407D-B064-FD0985FFA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B155-6674-441D-A94D-C61A3F9BE058}"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22E7-7712-4B58-AF57-085F5CA2E67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2ACA-C258-48F9-B50C-130E268D28F5}"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9897-A63B-4BAE-86B4-88C24B273321}"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6A706F2-CCCE-40D6-9D56-5A60E723F033}" type="slidenum">
              <a:t>10</a:t>
            </a:fld>
          </a:p>
        </p:txBody>
      </p:sp>
      <p:sp>
        <p:nvSpPr>
          <p:cNvPr id="6" name="PlaceHolder 5"/>
          <p:cNvSpPr>
            <a:spLocks noGrp="1"/>
          </p:cNvSpPr>
          <p:nvPr>
            <p:ph type="dt" idx="1"/>
          </p:nvPr>
        </p:nvSpPr>
        <p:spPr/>
        <p:txBody>
          <a:bodyPr/>
          <a:p>
            <a:fld id="{62657D98-FF40-4517-AD9F-07485F2DF08D}" type="datetime1">
              <a:rPr lang="en-US"/>
              <a:t>07/30/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11F8A5C-8879-4833-8E19-A7E3DCDCB21A}" type="slidenum">
              <a:t>11</a:t>
            </a:fld>
          </a:p>
        </p:txBody>
      </p:sp>
      <p:sp>
        <p:nvSpPr>
          <p:cNvPr id="6" name="PlaceHolder 5"/>
          <p:cNvSpPr>
            <a:spLocks noGrp="1"/>
          </p:cNvSpPr>
          <p:nvPr>
            <p:ph type="dt" idx="1"/>
          </p:nvPr>
        </p:nvSpPr>
        <p:spPr/>
        <p:txBody>
          <a:bodyPr/>
          <a:p>
            <a:fld id="{20B2E019-11CE-4910-AF85-B89BE31B5D7C}" type="datetime1">
              <a:rPr lang="en-US"/>
              <a:t>07/30/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AAE2BA9-B02D-4E81-BBED-72876D1A3D12}" type="slidenum">
              <a:t>12</a:t>
            </a:fld>
          </a:p>
        </p:txBody>
      </p:sp>
      <p:sp>
        <p:nvSpPr>
          <p:cNvPr id="5" name="PlaceHolder 4"/>
          <p:cNvSpPr>
            <a:spLocks noGrp="1"/>
          </p:cNvSpPr>
          <p:nvPr>
            <p:ph type="dt" idx="1"/>
          </p:nvPr>
        </p:nvSpPr>
        <p:spPr/>
        <p:txBody>
          <a:bodyPr/>
          <a:p>
            <a:fld id="{2E22FF7A-9743-463F-86B7-87713F377CA9}" type="datetime1">
              <a:rPr lang="en-US"/>
              <a:t>07/30/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852DF68-3964-412D-B7B4-5BA28792E520}" type="slidenum">
              <a:t>13</a:t>
            </a:fld>
          </a:p>
        </p:txBody>
      </p:sp>
      <p:sp>
        <p:nvSpPr>
          <p:cNvPr id="5" name="PlaceHolder 4"/>
          <p:cNvSpPr>
            <a:spLocks noGrp="1"/>
          </p:cNvSpPr>
          <p:nvPr>
            <p:ph type="dt" idx="1"/>
          </p:nvPr>
        </p:nvSpPr>
        <p:spPr/>
        <p:txBody>
          <a:bodyPr/>
          <a:p>
            <a:fld id="{CBB3730E-2FB4-4490-8D6E-3A1FA3D8B12D}" type="datetime1">
              <a:rPr lang="en-US"/>
              <a:t>07/30/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0D12774-CE93-4A66-9D36-6DC53CE19F77}" type="slidenum">
              <a:t>14</a:t>
            </a:fld>
          </a:p>
        </p:txBody>
      </p:sp>
      <p:sp>
        <p:nvSpPr>
          <p:cNvPr id="5" name="PlaceHolder 4"/>
          <p:cNvSpPr>
            <a:spLocks noGrp="1"/>
          </p:cNvSpPr>
          <p:nvPr>
            <p:ph type="dt" idx="1"/>
          </p:nvPr>
        </p:nvSpPr>
        <p:spPr/>
        <p:txBody>
          <a:bodyPr/>
          <a:p>
            <a:fld id="{14EF3917-F6A2-48D1-935F-F4913C7B341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08FFDD2-D328-4695-A72C-C3EAA9896A5C}" type="slidenum">
              <a:t>15</a:t>
            </a:fld>
          </a:p>
        </p:txBody>
      </p:sp>
      <p:sp>
        <p:nvSpPr>
          <p:cNvPr id="6" name="PlaceHolder 5"/>
          <p:cNvSpPr>
            <a:spLocks noGrp="1"/>
          </p:cNvSpPr>
          <p:nvPr>
            <p:ph type="dt" idx="1"/>
          </p:nvPr>
        </p:nvSpPr>
        <p:spPr/>
        <p:txBody>
          <a:bodyPr/>
          <a:p>
            <a:fld id="{4897AB27-AF5E-4167-97BB-76D19318654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B1FC57F-5378-4688-98A9-6766C23EFF90}" type="slidenum">
              <a:t>16</a:t>
            </a:fld>
          </a:p>
        </p:txBody>
      </p:sp>
      <p:sp>
        <p:nvSpPr>
          <p:cNvPr id="5" name="PlaceHolder 4"/>
          <p:cNvSpPr>
            <a:spLocks noGrp="1"/>
          </p:cNvSpPr>
          <p:nvPr>
            <p:ph type="dt" idx="1"/>
          </p:nvPr>
        </p:nvSpPr>
        <p:spPr/>
        <p:txBody>
          <a:bodyPr/>
          <a:p>
            <a:fld id="{7CBCBC64-EF4C-45F4-A653-6F8966DCB983}" type="datetime1">
              <a:rPr lang="en-US"/>
              <a:t>07/30/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F7E297F-21B8-49C2-9CE2-514DD102657D}" type="slidenum">
              <a:t>17</a:t>
            </a:fld>
          </a:p>
        </p:txBody>
      </p:sp>
      <p:sp>
        <p:nvSpPr>
          <p:cNvPr id="5" name="PlaceHolder 4"/>
          <p:cNvSpPr>
            <a:spLocks noGrp="1"/>
          </p:cNvSpPr>
          <p:nvPr>
            <p:ph type="dt" idx="1"/>
          </p:nvPr>
        </p:nvSpPr>
        <p:spPr/>
        <p:txBody>
          <a:bodyPr/>
          <a:p>
            <a:fld id="{166B449E-3A30-4192-87B9-8A312D468566}" type="datetime1">
              <a:rPr lang="en-US"/>
              <a:t>07/30/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4231F74-A95C-43AF-82B5-A746657207F3}" type="slidenum">
              <a:t>18</a:t>
            </a:fld>
          </a:p>
        </p:txBody>
      </p:sp>
      <p:sp>
        <p:nvSpPr>
          <p:cNvPr id="5" name="PlaceHolder 4"/>
          <p:cNvSpPr>
            <a:spLocks noGrp="1"/>
          </p:cNvSpPr>
          <p:nvPr>
            <p:ph type="dt" idx="1"/>
          </p:nvPr>
        </p:nvSpPr>
        <p:spPr/>
        <p:txBody>
          <a:bodyPr/>
          <a:p>
            <a:fld id="{2CAC0292-E188-4BFF-9923-C58A18EF7CF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1632A10-89A1-4FB6-BA39-9BD452FD0427}" type="slidenum">
              <a:t>19</a:t>
            </a:fld>
          </a:p>
        </p:txBody>
      </p:sp>
      <p:sp>
        <p:nvSpPr>
          <p:cNvPr id="6" name="PlaceHolder 5"/>
          <p:cNvSpPr>
            <a:spLocks noGrp="1"/>
          </p:cNvSpPr>
          <p:nvPr>
            <p:ph type="dt" idx="1"/>
          </p:nvPr>
        </p:nvSpPr>
        <p:spPr/>
        <p:txBody>
          <a:bodyPr/>
          <a:p>
            <a:fld id="{1F93ABEE-2759-4EA7-BA62-F6FBA3AABD5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A09C1B0-FEE6-4663-B582-8EBCD943A48C}" type="slidenum">
              <a:t>2</a:t>
            </a:fld>
          </a:p>
        </p:txBody>
      </p:sp>
      <p:sp>
        <p:nvSpPr>
          <p:cNvPr id="6" name="PlaceHolder 5"/>
          <p:cNvSpPr>
            <a:spLocks noGrp="1"/>
          </p:cNvSpPr>
          <p:nvPr>
            <p:ph type="dt" idx="1"/>
          </p:nvPr>
        </p:nvSpPr>
        <p:spPr/>
        <p:txBody>
          <a:bodyPr/>
          <a:p>
            <a:fld id="{C88F7EF3-601C-4664-BF71-87AFA19421CC}" type="datetime1">
              <a:rPr lang="en-US"/>
              <a:t>07/30/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1FB6B7A-96FD-4D95-86FD-8036BE4AC940}" type="slidenum">
              <a:t>3</a:t>
            </a:fld>
          </a:p>
        </p:txBody>
      </p:sp>
      <p:sp>
        <p:nvSpPr>
          <p:cNvPr id="5" name="PlaceHolder 4"/>
          <p:cNvSpPr>
            <a:spLocks noGrp="1"/>
          </p:cNvSpPr>
          <p:nvPr>
            <p:ph type="dt" idx="1"/>
          </p:nvPr>
        </p:nvSpPr>
        <p:spPr/>
        <p:txBody>
          <a:bodyPr/>
          <a:p>
            <a:fld id="{BC56AD20-EF6E-48EC-8547-C853D4295BAB}" type="datetime1">
              <a:rPr lang="en-US"/>
              <a:t>07/30/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8AA19B0-1872-4784-ADCC-9745306AAF8D}" type="slidenum">
              <a:t>4</a:t>
            </a:fld>
          </a:p>
        </p:txBody>
      </p:sp>
      <p:sp>
        <p:nvSpPr>
          <p:cNvPr id="6" name="PlaceHolder 5"/>
          <p:cNvSpPr>
            <a:spLocks noGrp="1"/>
          </p:cNvSpPr>
          <p:nvPr>
            <p:ph type="dt" idx="1"/>
          </p:nvPr>
        </p:nvSpPr>
        <p:spPr/>
        <p:txBody>
          <a:bodyPr/>
          <a:p>
            <a:fld id="{DE7E6529-8156-4D79-BF5D-6CD284368CA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0686989-B666-48B1-9DC1-3D74859A960C}" type="slidenum">
              <a:t>5</a:t>
            </a:fld>
          </a:p>
        </p:txBody>
      </p:sp>
      <p:sp>
        <p:nvSpPr>
          <p:cNvPr id="6" name="PlaceHolder 5"/>
          <p:cNvSpPr>
            <a:spLocks noGrp="1"/>
          </p:cNvSpPr>
          <p:nvPr>
            <p:ph type="dt" idx="1"/>
          </p:nvPr>
        </p:nvSpPr>
        <p:spPr/>
        <p:txBody>
          <a:bodyPr/>
          <a:p>
            <a:fld id="{73BDAB7A-0001-4F77-9303-A415CCF8AC32}" type="datetime1">
              <a:rPr lang="en-US"/>
              <a:t>07/30/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0557934-7180-48EE-AC25-B1BAEDB3DA17}" type="slidenum">
              <a:t>6</a:t>
            </a:fld>
          </a:p>
        </p:txBody>
      </p:sp>
      <p:sp>
        <p:nvSpPr>
          <p:cNvPr id="6" name="PlaceHolder 5"/>
          <p:cNvSpPr>
            <a:spLocks noGrp="1"/>
          </p:cNvSpPr>
          <p:nvPr>
            <p:ph type="dt" idx="1"/>
          </p:nvPr>
        </p:nvSpPr>
        <p:spPr/>
        <p:txBody>
          <a:bodyPr/>
          <a:p>
            <a:fld id="{EAC7A185-5B33-4692-8D2A-8774C9BAF688}" type="datetime1">
              <a:rPr lang="en-US"/>
              <a:t>07/30/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70AA564-48C9-4898-ABEB-EF7F03051242}" type="slidenum">
              <a:t>7</a:t>
            </a:fld>
          </a:p>
        </p:txBody>
      </p:sp>
      <p:sp>
        <p:nvSpPr>
          <p:cNvPr id="5" name="PlaceHolder 4"/>
          <p:cNvSpPr>
            <a:spLocks noGrp="1"/>
          </p:cNvSpPr>
          <p:nvPr>
            <p:ph type="dt" idx="1"/>
          </p:nvPr>
        </p:nvSpPr>
        <p:spPr/>
        <p:txBody>
          <a:bodyPr/>
          <a:p>
            <a:fld id="{D2FA0213-1D08-48EA-BE21-84B78366C671}" type="datetime1">
              <a:rPr lang="en-US"/>
              <a:t>07/30/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A6FD733-724D-4B93-8B31-24CD65CABBD9}" type="slidenum">
              <a:t>8</a:t>
            </a:fld>
          </a:p>
        </p:txBody>
      </p:sp>
      <p:sp>
        <p:nvSpPr>
          <p:cNvPr id="5" name="PlaceHolder 4"/>
          <p:cNvSpPr>
            <a:spLocks noGrp="1"/>
          </p:cNvSpPr>
          <p:nvPr>
            <p:ph type="dt" idx="1"/>
          </p:nvPr>
        </p:nvSpPr>
        <p:spPr/>
        <p:txBody>
          <a:bodyPr/>
          <a:p>
            <a:fld id="{355FF0B8-7808-44D9-A0E5-81C4657B1427}" type="datetime1">
              <a:rPr lang="en-US"/>
              <a:t>07/30/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3283477-15EE-4310-A026-EFE5E51A722C}" type="slidenum">
              <a:t>9</a:t>
            </a:fld>
          </a:p>
        </p:txBody>
      </p:sp>
      <p:sp>
        <p:nvSpPr>
          <p:cNvPr id="6" name="PlaceHolder 5"/>
          <p:cNvSpPr>
            <a:spLocks noGrp="1"/>
          </p:cNvSpPr>
          <p:nvPr>
            <p:ph type="dt" idx="1"/>
          </p:nvPr>
        </p:nvSpPr>
        <p:spPr/>
        <p:txBody>
          <a:bodyPr/>
          <a:p>
            <a:fld id="{FD03D22D-8C10-478B-9A66-A16A7A1FA447}" type="datetime1">
              <a:rPr lang="en-US"/>
              <a:t>07/30/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